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5E0-FDEF-4577-AF05-C33D7E5B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C20-BBB3-44DD-BA7B-E0D96FCA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8D3-6E82-4C30-91D4-8945A0AC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F15-C624-49D9-A095-AF16F616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D84-9865-4CBA-AC2F-8AC15A5C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F4BB-7954-4814-993F-8F5DC88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8C7-3316-41D5-A209-52D34BC4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50E-DF7C-4AC7-94F0-94F8D59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984E-3DC7-4FE7-A87F-CD2DA39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283C-7D6D-47C9-8469-B86CB228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9386-5486-48B1-9757-6DE6508F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CAD-6D51-4AAD-B2E4-06C374B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71C-4B59-4C5B-AD92-654986E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5BC-1018-40C6-BD51-1123083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371-B406-4E87-BF35-4E68CF4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F240-F3A2-4EFB-BB2E-94E79FA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6F37-C28A-43E9-BC37-B830689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7A5-B57C-44B3-8F7F-A19CAAFF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851-6080-4990-A2FC-BA325CD4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CC5-6223-4CFE-9DDF-5D597E9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198-558E-4C99-841B-FAA5834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A95-BC7A-4678-A94B-85851A9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EB5-50E2-48FC-B6DA-276BCA2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1EE-A45A-4286-9ADC-92A5B70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E5B-6393-4AEC-B05E-E6B1073AEE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8C05-7B74-4FA4-AFAA-6EC08CF9D9C6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DDAE0DC998822ECE1E9649B678DC5B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64AC5921875E1060A316FF380C98050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54569A515D7C90DEBE2B6A4330EB77A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2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«Мы – пешеходы»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Изображение 154"/>
          <p:cNvPicPr/>
          <p:nvPr/>
        </p:nvPicPr>
        <p:blipFill>
          <a:blip r:embed="rId1"/>
          <a:stretch/>
        </p:blipFill>
        <p:spPr>
          <a:xfrm>
            <a:off x="2214720" y="1285920"/>
            <a:ext cx="4857480" cy="5443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000080" y="3571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ПЕРЕКРЕСТОК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Изображение 155"/>
          <p:cNvPicPr/>
          <p:nvPr/>
        </p:nvPicPr>
        <p:blipFill>
          <a:blip r:embed="rId1"/>
          <a:stretch/>
        </p:blipFill>
        <p:spPr>
          <a:xfrm>
            <a:off x="142920" y="1643040"/>
            <a:ext cx="8777160" cy="5114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500120" y="35712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ДОРОГУ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ИК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000240" cy="272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214960" y="42148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1214280" y="43578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6143760" y="1714680"/>
            <a:ext cx="2822400" cy="18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3500280" y="1214280"/>
            <a:ext cx="2428920" cy="269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 flipV="1" rot="10773000">
            <a:off x="3357000" y="1796760"/>
            <a:ext cx="53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Cambria"/>
              </a:rPr>
              <a:t>П. 4.1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переходе дороги и движении по обочинам или краю проезжей ча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мное время суток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ли в условиях недостаточной видимо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ам рекомендуется, а вне населенных пунктов пешеходы обязаны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иметь при себе предметы со световозвращающими элементами и обеспечивать видимость этих предметов водителями транспортных сред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571760" y="642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ИЮЛЯ 2015 ГОД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Picture 2" descr="http://webserver.modus2.ru/images/396166.jpg"/>
          <p:cNvPicPr/>
          <p:nvPr/>
        </p:nvPicPr>
        <p:blipFill>
          <a:blip r:embed="rId1"/>
          <a:stretch/>
        </p:blipFill>
        <p:spPr>
          <a:xfrm>
            <a:off x="214200" y="1857240"/>
            <a:ext cx="2857680" cy="415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1000080" y="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двигаться по тротуарам или пешеходным дорожкам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500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тротуаров, пешеходных дорожек пешеходы могут двигаться по левой или идти друг за другом по краю проезжей части. 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WINDOWS\Temp\$BSLMBD$\DDAE0DC998822ECE1E9649B678DC5B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06800"/>
            <a:ext cx="635796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928800" y="0"/>
            <a:ext cx="72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пересекать проезжую часть по пешеходным переходам, в том числе по подземным и надземны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357800" y="214308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286160"/>
            <a:ext cx="17146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9"/>
          <p:cNvSpPr/>
          <p:nvPr/>
        </p:nvSpPr>
        <p:spPr>
          <a:xfrm>
            <a:off x="214200" y="43578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отсутствии пешеходного перехода пешеходу разрешается переходить дорогу под прямым углом к краю проезжей части на участке без разделительной полосы и ограждений. При этом дорога должна хорошо просматриваться в обе сторо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Picture 2" descr="C:\WINDOWS\Temp\$BSLMBD$\64AC5921875E1060A316FF380C9805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200"/>
            <a:ext cx="8271000" cy="418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8575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4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регулируемых пешеходных переходах пешеходы могут выходить на проезжую часть дороги только после того, как они оценят расстояние до приближающихся транспортных средств и убедятся, что переход будет безопасен.</a:t>
            </a: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WINDOWS\Temp\$BSLMBD$\54569A515D7C90DEBE2B6A4330EB77A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7072200" cy="3775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572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5</a:t>
            </a:r>
            <a:br>
              <a:rPr sz="2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бегайте улицу, надо переходить ее шагом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bezopasnost-detej.ru/images/2013-2/208-9-pravila-dorozhnogo-dvizheniya-detyam-kartinki.jpg"/>
          <p:cNvPicPr/>
          <p:nvPr/>
        </p:nvPicPr>
        <p:blipFill>
          <a:blip r:embed="rId1"/>
          <a:stretch/>
        </p:blipFill>
        <p:spPr>
          <a:xfrm>
            <a:off x="142920" y="1857240"/>
            <a:ext cx="4378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42.fastpic.ru/big/2012/0904/65/558d7d4a5512e3b19997fd2e2ec51b6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7"/>
          <p:cNvSpPr/>
          <p:nvPr/>
        </p:nvSpPr>
        <p:spPr>
          <a:xfrm>
            <a:off x="142920" y="1857240"/>
            <a:ext cx="4357800" cy="314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 flipV="1">
            <a:off x="0" y="1928520"/>
            <a:ext cx="4500720" cy="314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http://uch.znate.ru/tw_files2/urls_9/6/d-5818/5818_html_55c87946.jpg"/>
          <p:cNvPicPr/>
          <p:nvPr/>
        </p:nvPicPr>
        <p:blipFill>
          <a:blip r:embed="rId1"/>
          <a:stretch/>
        </p:blipFill>
        <p:spPr>
          <a:xfrm>
            <a:off x="4286160" y="357192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uch.znate.ru/tw_files2/urls_9/6/d-5818/5818_html_207ad67d.jpg"/>
          <p:cNvPicPr/>
          <p:nvPr/>
        </p:nvPicPr>
        <p:blipFill>
          <a:blip r:embed="rId2"/>
          <a:stretch/>
        </p:blipFill>
        <p:spPr>
          <a:xfrm>
            <a:off x="285840" y="2214720"/>
            <a:ext cx="4643280" cy="3071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143000" y="142920"/>
            <a:ext cx="714384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 выбегайте на дорогу вне зоны пешеходного перехода, в этом месте водитель не ожидает пешеходов и не сможет мгновенно остановить автомобиль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User</cp:lastModifiedBy>
  <dcterms:modified xsi:type="dcterms:W3CDTF">2015-04-08T12:37:53Z</dcterms:modified>
  <cp:revision>42</cp:revision>
  <dc:subject/>
  <dc:title>ОСНОВНЫЕ ПОНЯТИЯ И ТЕРМИНЫ, используемые в правилах дорожного движения</dc:title>
</cp:coreProperties>
</file>